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7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8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7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34E5-ACFC-4732-A0A0-912B6039BFFB}" type="slidenum">
              <a:rPr b="1" lang="en-US" sz="1200" spc="-1" strike="noStrike">
                <a:solidFill>
                  <a:srgbClr val="000078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, Stripes, and Symbols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Stars, Stripes, and Symbols of America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S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Seal was created by Ben Franklin, John Adams, and Thomas Jeffer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unding fathers felt that the Great Seal would show other countries of the world that America was an independent and free count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Great Sea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Great Seal was created by Ben Franklin, John Adams, and Thomas Jeffers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ounding fathers felt that the Great Seal would show other countries of the world that America was an independent and free country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it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itution is an important document that tells about our government and the rights of American citiz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Constitution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Constitution is an important document that tells about our government and the rights of American citizen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House is where the President of the United States liv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in our nation’s capital, Washington, D.C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hite House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hite House is where the President of the United States lives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in our nation’s capital, Washington, D.C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ashington is known as the father of 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he first president of the United Sta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is on the dollar bill and the quar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ashington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ashington is known as the father of our countr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e was the first president of the United States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is face is on the dollar bill and the quarter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. Bu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current president is George W. Bu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the 43rd president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becoming president, he lived in the state of Tex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. Bush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current president is George W. Bush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e is the 43rd president of the United State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Before becoming president, he lived in the state of Texa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U.S. Symb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le S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edge of Allegi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ve (symbol for pe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U.S. Symbols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Uncle Sa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Pledge of Allegiance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Dove (symbol for peace)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B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od Bless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 has many different symbols that are unique to our country and represent the freedoms that we enjo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National Symbo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 has many different symbols that are unique to our country and represent the freedoms that we enjo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hat are National Symbols?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la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erican Flag represents our culture and hi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fty stars represent the fifty states and the 13 stripes represent the original 13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U.S. flag was designed in 1777. The flag has been changed many times since then. New stars are added each time new states join the un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7 Star Spangled B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Flag</a:t>
            </a:r>
            <a:br>
              <a:rPr sz="1200"/>
            </a:b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American Flag represents our culture and history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ifty stars represent the fifty states and the 13 stripes represent the original 13 colonie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irst U.S. flag was designed in 1777. The flag has been changed many times since then. New stars are added each time new states join the uni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1907 Star Spangled Banner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al An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is Scott Key wrote the words to the Star Spangled Banner in 1814 when he saw the flag still flying after a night-time battle with Eng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National Anthe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Francis Scott Key wrote the words to the Star Spangled Banner in 1814 when he saw the flag still flying after a night-time battle with England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atriotic So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atriotic song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, the Beauti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Country Tis of Th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and is Your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Bless the U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Patriotic Songs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patriotic songs include: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, the Beautifu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My Country Tis of Thee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is Land is Your Land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od Bless the USA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ue of Lib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tue of Liberty was a gift from France in 1886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on Ellis Island in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symbol of freedom to all who come to 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Statue of Liberty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Statue of Liberty was a gift from France in 1886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on Ellis Island in New York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a symbol of freedom to all who come to our countr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Trip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s I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Virtual Trip to </a:t>
            </a: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Ellis Island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berty B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berty Bell is located in Philadelphia’s State Hou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rung to celebrate the adoption of the Declaration of Independ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Liberty Bel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Liberty Bell is located in Philadelphia’s State House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was rung to celebrate the adoption of the Declaration of Independence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shington Monu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shington Monument is the world’s tallest ston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in Washington D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nstructed to commemorate George Washing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ashington Monument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ashington Monument is the world’s tallest stone structure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in Washington D.C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was constructed to commemorate George Washingt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FC70-E4A6-49CF-8887-3FF36A87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09C1-2900-4B82-8365-68C90DA3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A35-1826-4EED-BCB5-4E8F4038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AFD-2ADB-406A-BED4-292818D3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722-298C-48A2-98DD-C24920B4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56ED-B721-46C7-BB12-25F966BE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482-F2BF-46B8-B1F2-8B2BE43B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1167-11D6-429E-BF31-C5F93582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-3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057-8CA1-4DE4-888F-05C8EF88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54BF-AA41-4B4C-9B6D-C7DECA1A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455C-AF2E-4570-9C2B-3764CAAF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EC2-8833-456E-9146-90C24E3C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Sam Grogan\My Documents\Proxima\Templates\Set3\2.bmp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8088-7F52-475A-9410-F9B4791DD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cweb2.loc.gov/cgi-bin/query/I?fsaall,app,brum,detr,swann,look,gottscho,pan,horyd,genthe,var,cai,cd,hh,yan,bbcards,lomax,ils,prok,brhc,nclc,matpc,iucpub,tgmi,lamb:7:./temp/~pp_HGjy::displayType=1:m856sd=cph:m856sf=3g02108:@@@mdb=fsaall,app,brum,detr,swann,look,gottscho,pan,horyd,genthe,var,cai,cd,hh,yan,bbcards,lomax,ils,prok,brhc,nclc,matpc,iucpub,tgmi,lamb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dag:1:./temp/~ammem_H0Jh::displayType=1:m856sd=cph:m856sf=3c12293:@@@mdb=manz,eaa,aaeo,aaodyssey,hh,gottscho,bbpix,bbcards,magbell,berl,lbcoll,cdn,cic,cwnyhs,cwar,consrvbib,coolbib,coplandbib,curt,dag,fsaall,aep,fine,fmuever,dcm,cmns,cowellbib,toddbib,afcnyebib,lomaxbib,ngp,gottlieb,alad,mffbib,mcc,mymhiwebib,aipn,afcwip,fawbib,omhbib,pan,vv,wpapos,psbib,pin,presp,qlt,ncr,afc911bib,mesnbib,denn,runyon,wtc,detr,upboverbib,varstg,horyd,hawp,suffrg,mnwp,rbcmillerbib,awh,awhbib,sgproto,wright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horyd:1:./temp/~ammem_qKZo::displayType=1:m856sd=thc:m856sf=5a50172:@@@hory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horyd:18:./temp/~ammem_TWLb::displayType=1:m856sd=thc:m856sf=5a38550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mfdipbib,afcnyebib,klpmap,hawp,omhbib,rbaapcbib,mal,ncpsbib,ncpm,lhbprbib,ftvbib,afcreed,aipn,cwband,flwpabib,wpapos,cmns,psbib,pin,coplandbib,cola,tccc,curt,mharendt,lhbcbbib,eaa,haybib,mesnbib,fine,cwnyhs,svybib,mmorse,afcwwgbib,mymhiwebib,uncall,afcwip,mtaft,manz,llstbib,fawbib,berl,fmuever,cdn,upboverbib,mussm,cic,afcpearl,awh,awhbib,sgp,wright,lhbtnbib,afcesnbib,hurstonbib,mreynoldsbib,spaldingbib,sgproto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memory.loc.gov/cgi-bin/query/I?detr:33:./temp/~ammem_TWLb::displayType=1:m856sd=det:m856sf=4a25713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mfdipbib,afcnyebib,klpmap,hawp,omhbib,rbaapcbib,mal,ncpsbib,ncpm,lhbprbib,ftvbib,afcreed,aipn,cwband,flwpabib,wpapos,cmns,psbib,pin,coplandbib,cola,tccc,curt,mharendt,lhbcbbib,eaa,haybib,mesnbib,fine,cwnyhs,svybib,mmorse,afcwwgbib,mymhiwebib,uncall,afcwip,mtaft,manz,llstbib,fawbib,berl,fmuever,cdn,upboverbib,mussm,cic,afcpearl,awh,awhbib,sgp,wright,lhbtnbib,afcesnbib,hurstonbib,mreynoldsbib,spaldingbib,sgproto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detr:95:./temp/~ammem_NHWl::displayType=1:m856sd=det:m856sf=4a09427:@@@mdb=manz,eaa,aaeo,aaodyssey,hh,gottscho,bbpix,bbcards,magbell,berl,lbcoll,cdn,cic,cwnyhs,cwar,consrvbib,coolbib,coplandbib,curt,dag,fsaall,aep,fine,fmuever,dcm,cmns,cowellbib,toddbib,afcnyebib,lomaxbib,ngp,gottlieb,alad,mffbib,mcc,mymhiwebib,aipn,afcwip,fawbib,omhbib,pan,vv,wpapos,psbib,pin,presp,qlt,ncr,afc911bib,mesnbib,denn,runyon,wtc,detr,upboverbib,varstg,horyd,hawp,suffrg,mnwp,rbcmillerbib,awh,awhbib,sgproto,wright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3520" y="60948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99"/>
                </a:solidFill>
                <a:latin typeface="AbcBulletin"/>
              </a:rPr>
              <a:t>Stars, Stripes, and Symbols of America</a:t>
            </a:r>
            <a:endParaRPr b="1" lang="en-US" sz="60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0" name="Picture 4" descr="http://www.geocities.com/mrsjacksonsclass/patriotickids.gif"/>
          <p:cNvPicPr/>
          <p:nvPr/>
        </p:nvPicPr>
        <p:blipFill>
          <a:blip r:embed="rId1"/>
          <a:stretch/>
        </p:blipFill>
        <p:spPr>
          <a:xfrm>
            <a:off x="3124080" y="3429000"/>
            <a:ext cx="3095640" cy="2695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Great Seal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2743200"/>
            <a:ext cx="7925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Great Seal was created by Ben Franklin, John Adams, and Thomas Jefferson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founding fathers felt that the Great Seal would show other countries of the world that America was an independent and free country.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7" name="Picture 2" descr="3g02108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438640" cy="1935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8"/>
                </a:solidFill>
                <a:latin typeface="AbcBulletin"/>
              </a:rPr>
              <a:t>The Constitution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1936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Constitution is an important document that tells about our government and the rights of American citizen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1" name="Picture 2" descr="Constitution of the United States (1787)"/>
          <p:cNvPicPr/>
          <p:nvPr/>
        </p:nvPicPr>
        <p:blipFill>
          <a:blip r:embed="rId1"/>
          <a:stretch/>
        </p:blipFill>
        <p:spPr>
          <a:xfrm>
            <a:off x="762120" y="1752480"/>
            <a:ext cx="3429000" cy="416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White House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191120" y="1904760"/>
            <a:ext cx="4419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White House is where the President of the United States lives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in our nation’s capital, Washington, D.C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5" name="Picture 2" descr="3c12293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277812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4a12677t"/>
          <p:cNvPicPr/>
          <p:nvPr/>
        </p:nvPicPr>
        <p:blipFill>
          <a:blip r:embed="rId3"/>
          <a:stretch/>
        </p:blipFill>
        <p:spPr>
          <a:xfrm>
            <a:off x="990720" y="4114800"/>
            <a:ext cx="2743200" cy="2160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George Washington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62160" y="182880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George Washington is known as the father of our country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e was the first president of the United States.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is face is on the dollar bill and the quarter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00" name="Picture 2" descr="4a26549t"/>
          <p:cNvPicPr/>
          <p:nvPr/>
        </p:nvPicPr>
        <p:blipFill>
          <a:blip r:embed="rId1"/>
          <a:stretch/>
        </p:blipFill>
        <p:spPr>
          <a:xfrm>
            <a:off x="762120" y="2057400"/>
            <a:ext cx="2660400" cy="32986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George W. Bush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657600" y="182880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Our current president is George W. Bush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e is the 43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bcKids"/>
              </a:rPr>
              <a:t>rd</a:t>
            </a: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 president of the United State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Before becoming president, he lived in the state of Texa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04" name="Picture 2" descr="President George W. Bush"/>
          <p:cNvPicPr/>
          <p:nvPr/>
        </p:nvPicPr>
        <p:blipFill>
          <a:blip r:embed="rId1"/>
          <a:stretch/>
        </p:blipFill>
        <p:spPr>
          <a:xfrm>
            <a:off x="914400" y="2133720"/>
            <a:ext cx="2438280" cy="3047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262699"/>
                </a:solidFill>
                <a:latin typeface="AbcBulletin"/>
              </a:rPr>
              <a:t>Other U.S. Symbols</a:t>
            </a:r>
            <a:endParaRPr b="1" lang="en-US" sz="55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6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Uncle Sam</a:t>
            </a:r>
            <a:endParaRPr b="1" lang="en-US" sz="4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The Pledge of Allegiance </a:t>
            </a:r>
            <a:endParaRPr b="1" lang="en-US" sz="4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50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Dove </a:t>
            </a:r>
            <a:r>
              <a:rPr b="1" lang="en-US" sz="3800" spc="-1" strike="noStrike">
                <a:solidFill>
                  <a:srgbClr val="ff0000"/>
                </a:solidFill>
                <a:latin typeface="AbcKids"/>
              </a:rPr>
              <a:t>(symbol for peace)</a:t>
            </a:r>
            <a:endParaRPr b="1" lang="en-US" sz="3800" spc="-1" strike="noStrike">
              <a:solidFill>
                <a:srgbClr val="ff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78"/>
                </a:solidFill>
                <a:latin typeface="AbcKids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3800"/>
            </a:br>
            <a:r>
              <a:rPr b="1" lang="en-US" sz="3800" spc="-1" strike="noStrike">
                <a:solidFill>
                  <a:srgbClr val="c00000"/>
                </a:solidFill>
                <a:latin typeface="AbcKids"/>
              </a:rPr>
              <a:t>God Bless </a:t>
            </a:r>
            <a:endParaRPr b="1" lang="en-US" sz="3800" spc="-1" strike="noStrike">
              <a:solidFill>
                <a:srgbClr val="000078"/>
              </a:solidFill>
              <a:latin typeface="Verdana"/>
            </a:endParaRPr>
          </a:p>
        </p:txBody>
      </p:sp>
      <p:pic>
        <p:nvPicPr>
          <p:cNvPr id="110" name="Picture 2" descr="american flag doll"/>
          <p:cNvPicPr/>
          <p:nvPr/>
        </p:nvPicPr>
        <p:blipFill>
          <a:blip r:embed="rId1"/>
          <a:stretch/>
        </p:blipFill>
        <p:spPr>
          <a:xfrm>
            <a:off x="3124080" y="4800600"/>
            <a:ext cx="3000600" cy="17715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bcKids"/>
              </a:rPr>
              <a:t>America has many different symbols that are unique to our country and represent the freedoms that we enjoy.</a:t>
            </a:r>
            <a:endParaRPr b="1" lang="en-US" sz="4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914400" y="533520"/>
            <a:ext cx="7238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7632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3200" spc="1" strike="noStrike">
              <a:ln w="7632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3808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What are National Symbols?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262699"/>
                </a:solidFill>
                <a:latin typeface="AbcBulletin"/>
              </a:rPr>
              <a:t>Our Flag</a:t>
            </a:r>
            <a:br>
              <a:rPr sz="7200"/>
            </a:br>
            <a:endParaRPr b="1" lang="en-US" sz="7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3716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American Flag represents our culture and history. 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fifty stars represent the fifty states and the 13 stripes represent the original 13 colonies.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first U.S. flag was designed in 1777. The flag has been changed many times since then. New stars are added each time new states join the union.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8" name="Picture 4" descr="Large Image"/>
          <p:cNvPicPr/>
          <p:nvPr/>
        </p:nvPicPr>
        <p:blipFill>
          <a:blip r:embed="rId1"/>
          <a:stretch/>
        </p:blipFill>
        <p:spPr>
          <a:xfrm>
            <a:off x="4724280" y="1600200"/>
            <a:ext cx="384516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4876920" y="525780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AbcKids"/>
              </a:rPr>
              <a:t>1907 Star Spangled Banner</a:t>
            </a:r>
            <a:endParaRPr b="1" lang="en-US" sz="24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Our National Anthem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175248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bcKids"/>
              </a:rPr>
              <a:t>Francis Scott Key wrote the words to the Star Spangled Banner in 1814 when he saw the flag still flying after a night-time battle with England.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63" name="Picture 4" descr="5a50172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2895480"/>
            <a:ext cx="1981080" cy="294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[Facsimile of Keim manuscript] [manuscript]"/>
          <p:cNvPicPr/>
          <p:nvPr/>
        </p:nvPicPr>
        <p:blipFill>
          <a:blip r:embed="rId3"/>
          <a:stretch/>
        </p:blipFill>
        <p:spPr>
          <a:xfrm>
            <a:off x="5826240" y="1371600"/>
            <a:ext cx="2887560" cy="3505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Other Patriotic Songs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Other patriotic songs include: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America, the Beautiful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My Country Tis of Thee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This Land is Your Land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God Bless the USA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Statue of Liberty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7720" y="182844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Statue of Liberty was a gift from France in 1886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on Ellis Island in New York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a symbol of freedom to all who come to our country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71" name="Picture 2" descr="3c22833t"/>
          <p:cNvPicPr/>
          <p:nvPr/>
        </p:nvPicPr>
        <p:blipFill>
          <a:blip r:embed="rId1"/>
          <a:stretch/>
        </p:blipFill>
        <p:spPr>
          <a:xfrm>
            <a:off x="5440320" y="1828800"/>
            <a:ext cx="292572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Virtual Trip to </a:t>
            </a:r>
            <a:br>
              <a:rPr sz="4800"/>
            </a:b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Ellis Island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pic>
        <p:nvPicPr>
          <p:cNvPr id="74" name="statue_of_liberty.mpg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5130720" cy="38480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083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Liberty Bell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733920" y="17524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Liberty Bell is located in Philadelphia’s State House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was rung to celebrate the adoption of the Declaration of Independence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78" name="Picture 2" descr="5a38550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447920"/>
            <a:ext cx="1936800" cy="2361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4a25713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962520"/>
            <a:ext cx="1986120" cy="24620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Washington Monument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114800" y="18284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Washington Monument is the world’s tallest stone structure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in Washington D.C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was constructed to commemorate George Washington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3" name="Picture 2" descr="4a09427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981080"/>
            <a:ext cx="343692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5:40:04Z</dcterms:created>
  <dc:creator>Farmington Elementary</dc:creator>
  <dc:description/>
  <dc:language>en-US</dc:language>
  <cp:lastModifiedBy>Legion</cp:lastModifiedBy>
  <dcterms:modified xsi:type="dcterms:W3CDTF">2017-07-05T12:52:38Z</dcterms:modified>
  <cp:revision>89</cp:revision>
  <dc:subject/>
  <dc:title>PowerPoint Presentation</dc:title>
</cp:coreProperties>
</file>